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869B-E555-425A-AA93-D74F1E24058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E51-0F2F-44E3-B523-6658DFCF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34A-C6F3-4542-915A-B2E721C2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5D1-E17B-43BB-AAAE-73A096EC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824-267C-42E1-9709-FEC51280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2ECC-37F2-46CE-B832-828D385A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E326-F011-41ED-9000-0DC86E92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986C-38B0-44E2-B87E-9F83DDC9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0235-701C-41D5-A5BB-588F189E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C78E-0AF9-45F3-AB00-1D81E8BD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234B-5797-4CCE-8D72-6302B9ED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4DEB-0249-4DD7-A663-F18722AE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DBD-D587-4D12-88B4-52847283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731C-80DD-4ACA-948F-6FD42410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A8E1-9674-4FAF-B3B7-F830F599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F986-9990-4242-8E0D-67EC7420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BD34-1F09-46C6-9098-985B6BE4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8203-174D-49D2-9126-68B270B1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8B7-7826-4AA5-9309-C8CBEB76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41B-1EDE-481E-97D6-F3CA7BB4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DF5A-D908-49DD-B1B2-9914ED34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53F-3AEB-4FE7-BB04-CE9D1844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565-2C5B-47F7-85FC-8829F6CD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152-0B7C-4845-A59F-0B0150B3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202-92CA-43ED-8E44-65E859F9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Line 5"/>
          <p:cNvSpPr/>
          <p:nvPr/>
        </p:nvSpPr>
        <p:spPr>
          <a:xfrm>
            <a:off x="611280" y="6453360"/>
            <a:ext cx="792468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7676-9E69-4495-8FDF-21EC12EBC3D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2383-97EA-45E2-90E1-5A79F9AFC08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826920" y="2637000"/>
            <a:ext cx="756144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cc0000"/>
                </a:solidFill>
                <a:latin typeface="휴먼옛체"/>
                <a:ea typeface="휴먼옛체"/>
              </a:rPr>
              <a:t>프로그램명</a:t>
            </a:r>
            <a:r>
              <a:rPr b="1" lang="en-US" sz="5400" spc="-1" strike="noStrike">
                <a:solidFill>
                  <a:srgbClr val="cc0000"/>
                </a:solidFill>
                <a:latin typeface="휴먼옛체"/>
                <a:ea typeface="휴먼옛체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휴먼옛체"/>
                <a:ea typeface="휴먼옛체"/>
              </a:rPr>
              <a:t>지원기관명</a:t>
            </a:r>
            <a:r>
              <a:rPr b="1" lang="en-US" sz="2000" spc="-1" strike="noStrike">
                <a:solidFill>
                  <a:srgbClr val="cc0000"/>
                </a:solidFill>
                <a:latin typeface="휴먼옛체"/>
                <a:ea typeface="휴먼옛체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휴먼옛체"/>
                <a:ea typeface="휴먼옛체"/>
              </a:rPr>
              <a:t>지원일</a:t>
            </a:r>
            <a:r>
              <a:rPr b="1" lang="en-US" sz="2000" spc="-1" strike="noStrike">
                <a:solidFill>
                  <a:srgbClr val="cc0000"/>
                </a:solidFill>
                <a:latin typeface="휴먼옛체"/>
                <a:ea typeface="휴먼옛체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611280" y="76500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휴먼옛체"/>
                <a:ea typeface="휴먼옛체"/>
              </a:rPr>
              <a:t>인증지원프로그램 설명서</a:t>
            </a:r>
            <a:r>
              <a:rPr b="0" lang="en-US" sz="2000" spc="-1" strike="noStrike">
                <a:solidFill>
                  <a:srgbClr val="cc0000"/>
                </a:solidFill>
                <a:latin typeface="휴먼옛체"/>
                <a:ea typeface="휴먼옛체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옛체"/>
                <a:ea typeface="휴먼옛체"/>
              </a:rPr>
              <a:t>한국코치협회는 프로그램 인증심사를 </a:t>
            </a:r>
            <a:r>
              <a:rPr b="0" lang="en-US" sz="1400" spc="-1" strike="noStrike">
                <a:solidFill>
                  <a:srgbClr val="000000"/>
                </a:solidFill>
                <a:latin typeface="휴먼옛체"/>
                <a:ea typeface="휴먼옛체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휴먼옛체"/>
                <a:ea typeface="휴먼옛체"/>
              </a:rPr>
              <a:t>차적으로 제출된 서류를 근거로 하고 있습니다</a:t>
            </a:r>
            <a:r>
              <a:rPr b="0" lang="en-US" sz="1400" spc="-1" strike="noStrike">
                <a:solidFill>
                  <a:srgbClr val="000000"/>
                </a:solidFill>
                <a:latin typeface="휴먼옛체"/>
                <a:ea typeface="휴먼옛체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휴먼옛체"/>
                <a:ea typeface="휴먼옛체"/>
              </a:rPr>
              <a:t>프로그램 설명서를 자세히 기록하여 주십시오</a:t>
            </a:r>
            <a:r>
              <a:rPr b="0" lang="en-US" sz="1400" spc="-1" strike="noStrike">
                <a:solidFill>
                  <a:srgbClr val="000000"/>
                </a:solidFill>
                <a:latin typeface="휴먼옛체"/>
                <a:ea typeface="휴먼옛체"/>
              </a:rPr>
              <a:t>.</a:t>
            </a:r>
            <a:r>
              <a:rPr b="0" lang="en-US" sz="2000" spc="-1" strike="noStrike">
                <a:solidFill>
                  <a:srgbClr val="cc0000"/>
                </a:solidFill>
                <a:latin typeface="휴먼옛체"/>
                <a:ea typeface="휴먼옛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684360" y="692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c0000"/>
                </a:solidFill>
                <a:latin typeface="휴먼옛체"/>
                <a:ea typeface="휴먼옛체"/>
              </a:rPr>
              <a:t>프로그램 특징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84360" y="692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c0000"/>
                </a:solidFill>
                <a:latin typeface="휴먼옛체"/>
                <a:ea typeface="휴먼옛체"/>
              </a:rPr>
              <a:t>학습 목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84360" y="692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c0000"/>
                </a:solidFill>
                <a:latin typeface="휴먼옛체"/>
                <a:ea typeface="휴먼옛체"/>
              </a:rPr>
              <a:t>학습 대상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86"/>
          <p:cNvSpPr/>
          <p:nvPr/>
        </p:nvSpPr>
        <p:spPr>
          <a:xfrm>
            <a:off x="684360" y="692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c0000"/>
                </a:solidFill>
                <a:latin typeface="휴먼옛체"/>
                <a:ea typeface="휴먼옛체"/>
              </a:rPr>
              <a:t>프로그램 운영 프로세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84360" y="692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c0000"/>
                </a:solidFill>
                <a:latin typeface="휴먼옛체"/>
                <a:ea typeface="휴먼옛체"/>
              </a:rPr>
              <a:t>프로그램 세부 설명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66640" y="1916280"/>
          <a:ext cx="7893000" cy="4346280"/>
        </p:xfrm>
        <a:graphic>
          <a:graphicData uri="http://schemas.openxmlformats.org/drawingml/2006/table">
            <a:tbl>
              <a:tblPr/>
              <a:tblGrid>
                <a:gridCol w="909720"/>
                <a:gridCol w="1295280"/>
                <a:gridCol w="4753080"/>
                <a:gridCol w="9349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cc0000"/>
                          </a:solidFill>
                          <a:latin typeface="굴림"/>
                        </a:rPr>
                        <a:t>모듈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cc0000"/>
                          </a:solidFill>
                          <a:latin typeface="굴림"/>
                        </a:rPr>
                        <a:t>목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cc0000"/>
                          </a:solidFill>
                          <a:latin typeface="굴림"/>
                        </a:rPr>
                        <a:t>주요 교육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cc0000"/>
                          </a:solidFill>
                          <a:latin typeface="굴림"/>
                        </a:rPr>
                        <a:t>세부진행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84360" y="692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c0000"/>
                </a:solidFill>
                <a:latin typeface="휴먼옛체"/>
                <a:ea typeface="휴먼옛체"/>
              </a:rPr>
              <a:t>기타사항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55640" y="1989000"/>
            <a:ext cx="748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팔로우업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총 코칭실습 시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결석에 대한 운영 규칙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SEC</dc:creator>
  <dc:description/>
  <dc:language>en-US</dc:language>
  <cp:lastModifiedBy>korea</cp:lastModifiedBy>
  <dcterms:modified xsi:type="dcterms:W3CDTF">2012-03-13T04:51:12Z</dcterms:modified>
  <cp:revision>73</cp:revision>
  <dc:subject/>
  <dc:title>슬라이드 1</dc:title>
</cp:coreProperties>
</file>